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D7C-7F3C-448C-9C9E-A1ECCEF5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1EC-C0C0-45F0-9BC8-403BE7E0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F43-C89D-4106-B5CF-AD2AC34E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4F8-B23E-47F0-BFAA-69A78206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8E75-66B8-4791-83DF-A9C8A0E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858-9319-4410-AD00-08F9D7A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5A42-C0DB-4B91-87A2-64A8197F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252-4F71-4920-943B-544E9304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1CEB-9F38-4FAB-A3BC-6AD00F7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055-24C9-4F15-BD63-9CBAAC39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80C-916C-4063-99A5-408A55F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F22-B257-4AC1-8CC7-8EEC407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245D-5ECF-4DE8-A3A2-0C7D308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2CB-FF2D-4A19-AC0F-DBE06AD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4AEA-7491-484D-AB9B-F8ED017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F399-81F4-4F94-A89B-22EBBAE3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2E5-3D1B-4521-A1E8-4371AA46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593BE-80DC-4C6B-B3D7-80FF1622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C1346-9952-4200-B86E-89FBB8E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E93E2-4D30-4024-870C-0719DD9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91436-C6F1-4336-9EEC-5F8D539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DB2BD-EE6D-44CD-B9E2-C305F9B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9D0-C593-4006-A3AC-8BEF5878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98578-D9E4-4B52-B53D-DCD6ED70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79842-8A19-4570-80A0-E105EE9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783B-EB66-4B0A-AE8D-D39E624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9B3C8-8120-49F9-BDF4-C8B6440D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400F3-9665-47A5-AA29-E8A63DE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2BD05-778D-4057-9145-0F05D5FA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D8337-E047-4D8D-AE7F-EE8F79D2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034-F7A0-4445-BA58-914F1BB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3A3-F863-45F7-8F3E-273DBCE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A0C-143C-4508-BCF8-57825BF9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403-CF07-4401-89AB-63A3E92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5E1-07C4-4181-8777-ADCD428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444-0587-4136-B584-2119123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3706-8FCE-4710-8F9F-4092CC78D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047-5ED7-42F2-B0A9-AA4916CF5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BA6-569F-4957-99AF-AAD872A57D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33360"/>
            <a:ext cx="805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rbeiten bringt Brot - Faulenzen Hungersno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in Erfolg ohne Mühe und Arbei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uf dem Ofen sitzend wird man nicht General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r den Fuchs fangen will, muss mit den Hühnern aufsteh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chtsgrundlagen für Schüler-Jobs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aut Gesetz zum Schutze der arbeitenden Jugend dürfen Kinder unter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14 Jahr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gar nicht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arbei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ugendliche, die mindestens 15 aber noch nicht 18 Jahre alt sind, können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vier Wochen pro Jahr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in den Ferien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tägliche Arbeitszeit darf acht Stunden nicht überschreiten (nicht mehr als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40 Stunden in der Woch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30 Minuten Paus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stehen den Jungendlichen zu, wenn sie mindestens viereinhalb bis sechs Stunden am Tag arbeiten und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60 Minu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, wenn sie mehr als sechs Stunden am Tag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523880" y="907920"/>
          <a:ext cx="7008480" cy="4993920"/>
        </p:xfrm>
        <a:graphic>
          <a:graphicData uri="http://schemas.openxmlformats.org/drawingml/2006/table">
            <a:tbl>
              <a:tblPr/>
              <a:tblGrid>
                <a:gridCol w="1931040"/>
                <a:gridCol w="2741040"/>
                <a:gridCol w="2336400"/>
              </a:tblGrid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042920" y="907920"/>
          <a:ext cx="7635960" cy="499428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46116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Wochen pro Jahr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inuten oder 60 Minuten Pause am Tag 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r als 40 Stunden pro Woche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620640"/>
            <a:ext cx="76327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1.Ich möchte in den Ferien ………… arbeiten (job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2.Ich habe  im Netz eine Anzeige gefunden. Man sucht …………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3.Die Arbeit …….. mir viel Spa</a:t>
            </a:r>
            <a:r>
              <a:rPr b="1" lang="el-GR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4.Ich habe einmal………….. ausge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5. Ich w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ürde gern Kontakte ……. fi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 ich einen Job in den Ferien annehmen?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rgumente pro und con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105264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413000"/>
          <a:ext cx="7772400" cy="2811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785880" y="1000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Ferienjob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pic>
        <p:nvPicPr>
          <p:cNvPr id="125" name="Picture 4" descr="21_fr_ferienjob"/>
          <p:cNvPicPr/>
          <p:nvPr/>
        </p:nvPicPr>
        <p:blipFill>
          <a:blip r:embed="rId1"/>
          <a:stretch/>
        </p:blipFill>
        <p:spPr>
          <a:xfrm>
            <a:off x="3049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erienjob"/>
          <p:cNvPicPr/>
          <p:nvPr/>
        </p:nvPicPr>
        <p:blipFill>
          <a:blip r:embed="rId2"/>
          <a:stretch/>
        </p:blipFill>
        <p:spPr>
          <a:xfrm>
            <a:off x="5410080" y="396252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Arbeit bedeutet atmen für mich;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wenn ich nicht arbeiten kann,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kann ich nicht atmen!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  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P</a:t>
            </a: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Picass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atmen -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b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457200"/>
            <a:ext cx="7467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Ferienjob bedeutet einen Job in den Ferie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Aber die Jugendlichen arbeiten nicht nur in den Ferien, sondern auch während des Lernens oder Studiums. Sie machen das gewöhnlich nach den Stunden in den Freizeit oder am Wochenend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zeitungsjunge"/>
          <p:cNvPicPr/>
          <p:nvPr/>
        </p:nvPicPr>
        <p:blipFill>
          <a:blip r:embed="rId1"/>
          <a:stretch/>
        </p:blipFill>
        <p:spPr>
          <a:xfrm>
            <a:off x="5943600" y="4343400"/>
            <a:ext cx="2827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5080" y="1268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en Eltern zu hel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aufzubess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zu verdi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Spaß zu b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ss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Klamott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st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hr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n und Geträ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m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657600" y="2286000"/>
            <a:ext cx="1676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 u="sng">
                <a:solidFill>
                  <a:srgbClr val="0000ff"/>
                </a:solidFill>
                <a:uFillTx/>
                <a:latin typeface="Times New Roman"/>
              </a:rPr>
              <a:t>JOB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38080" y="1447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äu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2743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24080" y="685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41497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30072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sebeg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05720" y="175248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ief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05720" y="30481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pfleg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2124000" y="3429000"/>
            <a:ext cx="1609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26668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57200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5257800" y="342900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2133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 flipH="1" flipV="1">
            <a:off x="2971440" y="1905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4100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0" descr="neben_oder_ferienjob_annehm"/>
          <p:cNvPicPr/>
          <p:nvPr/>
        </p:nvPicPr>
        <p:blipFill>
          <a:blip r:embed="rId1"/>
          <a:stretch/>
        </p:blipFill>
        <p:spPr>
          <a:xfrm>
            <a:off x="5791320" y="152280"/>
            <a:ext cx="33526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70836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s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5:43:58Z</dcterms:created>
  <dc:creator>Ребенко Н. А.</dc:creator>
  <dc:description/>
  <dc:language>en-US</dc:language>
  <cp:lastModifiedBy>ДСК</cp:lastModifiedBy>
  <dcterms:modified xsi:type="dcterms:W3CDTF">2014-02-12T19:56:47Z</dcterms:modified>
  <cp:revision>24</cp:revision>
  <dc:subject/>
  <dc:title>Презентация PowerPoint</dc:title>
</cp:coreProperties>
</file>